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D938-3F24-4639-A52F-A4E38C2F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B59-6F81-46B0-91BF-50503543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97C-13AE-41B6-B31D-4F4B6B16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230-47F4-4423-8517-CB8E1B34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D17-36D3-435B-B3A1-1C4531A6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014-EFEA-4AD6-9B37-B1E5D6A1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475-3BDA-4E48-9716-51B6E95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DB3-4FD7-4F4B-986A-7C6B5060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F3C-5F01-4AF4-AE94-A3514528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62B-C2A6-4437-9FF0-F81CD28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B67-DFCC-4254-AD08-11076B7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712-3B75-4D53-938F-D15AFB4E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1595-0714-4C50-91B6-523203AA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2590920"/>
            <a:ext cx="14479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2819520"/>
            <a:ext cx="10670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809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029200" y="2057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343400"/>
            <a:ext cx="14475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828800"/>
            <a:ext cx="13716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971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 lysising Ch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0481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(Oil and Biomas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19810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44956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 and Bro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486400"/>
            <a:ext cx="1523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13716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358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56386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apo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7200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5715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5410080"/>
            <a:ext cx="1295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5486400"/>
            <a:ext cx="12952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53280" y="56386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9548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419720"/>
            <a:ext cx="12193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572000"/>
            <a:ext cx="990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97180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12189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971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 Mix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6477120"/>
            <a:ext cx="17524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6135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ing Hex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60020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nt Extraction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r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9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ing Hex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rmentation &amp; Extraction Cost Analy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4925880"/>
        </p:xfrm>
        <a:graphic>
          <a:graphicData uri="http://schemas.openxmlformats.org/drawingml/2006/table">
            <a:tbl>
              <a:tblPr/>
              <a:tblGrid>
                <a:gridCol w="1795320"/>
                <a:gridCol w="3559320"/>
                <a:gridCol w="28749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i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for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g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Fo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for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 Co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for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g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hloric Aci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$35.00 per 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&amp;k Petroch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x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.17 per unit (1 Gal) plus $20 shipping surcharge every 6 uni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Q Conce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rme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the qu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pec /Midd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the qu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p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tr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for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g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ed for qu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 Sp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an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46.00 for 25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ma Aldr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8:19:14Z</dcterms:created>
  <dc:creator>Guest</dc:creator>
  <dc:description/>
  <dc:language>en-US</dc:language>
  <cp:lastModifiedBy>CheStudent</cp:lastModifiedBy>
  <dcterms:modified xsi:type="dcterms:W3CDTF">2010-02-18T18:20:21Z</dcterms:modified>
  <cp:revision>3</cp:revision>
  <dc:subject/>
  <dc:title>Block Flow Diagram</dc:title>
</cp:coreProperties>
</file>